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61AD-A088-4E09-854F-D0FD53DA9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91E1-6410-48B4-8CED-F261C86A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F2CB-ADD2-4031-892F-DB577421F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A7B4-5B6F-4179-9B10-4454E3C6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9439-9B5C-41D0-BAD3-E7FEBF39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F80D-FE0D-492D-B4F6-715A5E0B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1C2C-235C-4D63-ADA3-49B840DA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02DF-0081-42FE-9E87-35B942B5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88F4-CAC4-41A2-B0DC-FE857F46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29C1-27B0-4199-ABFA-B8996D1B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AB03-2612-41A8-9037-56971118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29D5-6F1E-4EF0-9B9C-A9CEFA39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F67C-BEA6-4C9C-AA36-10DDEEE3E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87 Smútok strieda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lesť a žia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mútok striedal bolesť a žia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ríž svoj niesol som sá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dosť mi vrátila Golgot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chránil ma môj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dosť mi vrátila Golgot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Golgota, Golgot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dosť mi vrátila Golgot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chránil ma môj Pá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nes, keď kráča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om s n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som našiel svoj ci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dosť mi vrátila Golgot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šiel ma Spas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dosť mi vrátila Golgot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Golgota, Golgot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dosť mi vrátila Golgot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šiel ma Spas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áchrancovi dobrorečí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mňa dal život svoj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dosť mi vrátila Golgot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žiš je život mô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dosť mi vrátila Golgot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Golgota, Golgot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dosť mi vrátila Golgot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žiš je život môj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2T08:01:08Z</dcterms:modified>
  <cp:revision>20</cp:revision>
  <dc:subject/>
  <dc:title>Je veľký náš Pán, on slávy je Kráľ Nech do všetkých strán  spev vrúcnych znie chvál.</dc:title>
</cp:coreProperties>
</file>